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3"/>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Text Box 7"/>
          <p:cNvSpPr/>
          <p:nvPr/>
        </p:nvSpPr>
        <p:spPr>
          <a:xfrm>
            <a:off x="3589200" y="9472680"/>
            <a:ext cx="29005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D5CC6517-5DF2-4172-98C0-71FC420C671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8" name="Text Box 8"/>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body"/>
          </p:nvPr>
        </p:nvSpPr>
        <p:spPr>
          <a:xfrm>
            <a:off x="914040" y="4724280"/>
            <a:ext cx="4946760" cy="4416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894960" y="752400"/>
            <a:ext cx="4948200" cy="37101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5189400" y="28353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5</a:t>
            </a:r>
            <a:endParaRPr b="0" lang="en-US" sz="1400" spc="-1" strike="noStrike">
              <a:solidFill>
                <a:srgbClr val="ffffff"/>
              </a:solidFill>
              <a:latin typeface="Times New Roman"/>
            </a:endParaRPr>
          </a:p>
        </p:txBody>
      </p:sp>
      <p:sp>
        <p:nvSpPr>
          <p:cNvPr id="166" name="Text Box 2"/>
          <p:cNvSpPr/>
          <p:nvPr/>
        </p:nvSpPr>
        <p:spPr>
          <a:xfrm>
            <a:off x="981000" y="382680"/>
            <a:ext cx="4907160" cy="36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PlaceHolder 1"/>
          <p:cNvSpPr>
            <a:spLocks noGrp="1"/>
          </p:cNvSpPr>
          <p:nvPr>
            <p:ph type="body"/>
          </p:nvPr>
        </p:nvSpPr>
        <p:spPr>
          <a:xfrm>
            <a:off x="914400" y="4723920"/>
            <a:ext cx="49500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8080" y="1676520"/>
            <a:ext cx="7839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8080" y="3940560"/>
            <a:ext cx="7839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808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496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8080" y="394056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4960" y="394056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8080" y="167652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8760" y="167652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39080" y="167652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8080" y="394056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8760" y="394056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39080" y="3940560"/>
            <a:ext cx="25239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8080" y="1676520"/>
            <a:ext cx="7839360" cy="4333680"/>
          </a:xfrm>
          <a:prstGeom prst="rect">
            <a:avLst/>
          </a:prstGeom>
          <a:noFill/>
          <a:ln w="0">
            <a:noFill/>
          </a:ln>
        </p:spPr>
        <p:txBody>
          <a:bodyPr lIns="0" rIns="0" tIns="0" bIns="0" anchor="ctr">
            <a:noAutofit/>
          </a:bodyPr>
          <a:p>
            <a:pPr indent="0" algn="ctr">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7839360" cy="433368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8080" y="1676520"/>
            <a:ext cx="3825360" cy="433368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4960" y="1676520"/>
            <a:ext cx="3825360" cy="433368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3040" cy="3857760"/>
          </a:xfrm>
          <a:prstGeom prst="rect">
            <a:avLst/>
          </a:prstGeom>
          <a:noFill/>
          <a:ln w="0">
            <a:noFill/>
          </a:ln>
        </p:spPr>
        <p:txBody>
          <a:bodyPr lIns="0" rIns="0" tIns="0" bIns="0" anchor="ctr">
            <a:noAutofit/>
          </a:bodyPr>
          <a:p>
            <a:pPr algn="ctr">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808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4960" y="1676520"/>
            <a:ext cx="3825360" cy="433368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8080" y="394056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8080" y="1676520"/>
            <a:ext cx="3825360" cy="433368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496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4960" y="394056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808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4960" y="1676520"/>
            <a:ext cx="3825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8080" y="3940560"/>
            <a:ext cx="7839360" cy="2067120"/>
          </a:xfrm>
          <a:prstGeom prst="rect">
            <a:avLst/>
          </a:prstGeom>
          <a:noFill/>
          <a:ln w="0">
            <a:noFill/>
          </a:ln>
        </p:spPr>
        <p:txBody>
          <a:bodyPr lIns="0" rIns="0" tIns="0" bIns="0" anchor="t">
            <a:normAutofit/>
          </a:bodyPr>
          <a:p>
            <a:pPr marL="343080" indent="0">
              <a:lnSpc>
                <a:spcPct val="9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762120" y="6400800"/>
            <a:ext cx="6324480" cy="43992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2011         T.Tammet loeng 15  </a:t>
            </a:r>
            <a:r>
              <a:rPr b="1" lang="en-GB" sz="1400" spc="-1" strike="noStrike">
                <a:solidFill>
                  <a:srgbClr val="6666ff"/>
                </a:solidFill>
                <a:latin typeface="Bitstream Vera Sans"/>
              </a:rPr>
              <a:t>  </a:t>
            </a:r>
            <a:fld id="{9198E06A-7628-40CF-87C8-7DD897E25767}"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_x0001_</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 name="Line 2"/>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838080" y="380520"/>
            <a:ext cx="7763040" cy="831960"/>
          </a:xfrm>
          <a:prstGeom prst="rect">
            <a:avLst/>
          </a:prstGeom>
          <a:noFill/>
          <a:ln w="0">
            <a:noFill/>
          </a:ln>
        </p:spPr>
        <p:txBody>
          <a:bodyPr lIns="0" rIns="0" tIns="0" bIns="0" anchor="ctr">
            <a:noAutofit/>
          </a:bodyPr>
          <a:p>
            <a:pPr indent="0">
              <a:lnSpc>
                <a:spcPct val="9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8080" y="1676520"/>
            <a:ext cx="7839360" cy="4333680"/>
          </a:xfrm>
          <a:prstGeom prst="rect">
            <a:avLst/>
          </a:prstGeom>
          <a:noFill/>
          <a:ln w="0">
            <a:noFill/>
          </a:ln>
        </p:spPr>
        <p:txBody>
          <a:bodyPr lIns="0" rIns="0" tIns="0" bIns="0" anchor="t">
            <a:normAutofit/>
          </a:bodyPr>
          <a:p>
            <a:pPr marL="343080" indent="0">
              <a:lnSpc>
                <a:spcPct val="91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1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88560"/>
            <a:ext cx="7772400" cy="8413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2" name="PlaceHolder 2"/>
          <p:cNvSpPr>
            <a:spLocks noGrp="1"/>
          </p:cNvSpPr>
          <p:nvPr>
            <p:ph/>
          </p:nvPr>
        </p:nvSpPr>
        <p:spPr>
          <a:xfrm>
            <a:off x="838080" y="990360"/>
            <a:ext cx="7848720" cy="5607000"/>
          </a:xfrm>
          <a:prstGeom prst="rect">
            <a:avLst/>
          </a:prstGeom>
          <a:noFill/>
          <a:ln w="0">
            <a:noFill/>
          </a:ln>
        </p:spPr>
        <p:txBody>
          <a:bodyPr lIns="92160" rIns="92160" tIns="46080" bIns="46080" anchor="t">
            <a:normAutofit/>
          </a:bodyPr>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gn="ct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  </a:t>
            </a:r>
            <a:r>
              <a:rPr b="1" lang="en-GB" sz="2400" spc="-1" strike="noStrike">
                <a:solidFill>
                  <a:srgbClr val="000000"/>
                </a:solidFill>
                <a:latin typeface="Bitstream Vera Sans"/>
              </a:rPr>
              <a:t>Sissejuhatus</a:t>
            </a: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 </a:t>
            </a:r>
            <a:r>
              <a:rPr b="1" lang="en-GB" sz="2400" spc="-1" strike="noStrike">
                <a:solidFill>
                  <a:srgbClr val="000000"/>
                </a:solidFill>
                <a:latin typeface="Bitstream Vera Sans"/>
              </a:rPr>
              <a:t>infotehnoloogiasse</a:t>
            </a: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Loeng 15</a:t>
            </a: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äri ja projektid</a:t>
            </a: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ct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ct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ctr">
              <a:lnSpc>
                <a:spcPct val="95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4800" indent="0" algn="ctr">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5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5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5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a:p>
            <a:pPr marL="334800" indent="0">
              <a:lnSpc>
                <a:spcPct val="95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Bitstream Vera Sans"/>
            </a:endParaRPr>
          </a:p>
        </p:txBody>
      </p:sp>
      <p:pic>
        <p:nvPicPr>
          <p:cNvPr id="53" name="Picture 3" descr=""/>
          <p:cNvPicPr/>
          <p:nvPr/>
        </p:nvPicPr>
        <p:blipFill>
          <a:blip r:embed="rId1"/>
          <a:stretch/>
        </p:blipFill>
        <p:spPr>
          <a:xfrm>
            <a:off x="1368360" y="1635120"/>
            <a:ext cx="2381400" cy="39434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a:t>
            </a:r>
            <a:endParaRPr b="1" lang="en-US" sz="2400" spc="-1" strike="noStrike">
              <a:solidFill>
                <a:srgbClr val="000099"/>
              </a:solidFill>
              <a:latin typeface="Bitstream Vera Sans"/>
            </a:endParaRPr>
          </a:p>
        </p:txBody>
      </p:sp>
      <p:sp>
        <p:nvSpPr>
          <p:cNvPr id="95" name="PlaceHolder 2"/>
          <p:cNvSpPr>
            <a:spLocks noGrp="1"/>
          </p:cNvSpPr>
          <p:nvPr>
            <p:ph/>
          </p:nvPr>
        </p:nvSpPr>
        <p:spPr>
          <a:xfrm>
            <a:off x="838080" y="761760"/>
            <a:ext cx="7848720" cy="9813960"/>
          </a:xfrm>
          <a:prstGeom prst="rect">
            <a:avLst/>
          </a:prstGeom>
          <a:noFill/>
          <a:ln w="0">
            <a:noFill/>
          </a:ln>
        </p:spPr>
        <p:txBody>
          <a:bodyPr lIns="92160" rIns="92160" tIns="46080" bIns="46080" anchor="t">
            <a:normAutofit/>
          </a:bodyPr>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2002 nii NASDQ kui DOW pidevalt langesid</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6" name="Group 3"/>
          <p:cNvGrpSpPr/>
          <p:nvPr/>
        </p:nvGrpSpPr>
        <p:grpSpPr>
          <a:xfrm>
            <a:off x="914400" y="298440"/>
            <a:ext cx="7767720" cy="311040"/>
            <a:chOff x="914400" y="298440"/>
            <a:chExt cx="7767720" cy="311040"/>
          </a:xfrm>
        </p:grpSpPr>
        <p:sp>
          <p:nvSpPr>
            <p:cNvPr id="97" name="Line 4"/>
            <p:cNvSpPr/>
            <p:nvPr/>
          </p:nvSpPr>
          <p:spPr>
            <a:xfrm>
              <a:off x="914400" y="603000"/>
              <a:ext cx="77659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 name="Line 5"/>
            <p:cNvSpPr/>
            <p:nvPr/>
          </p:nvSpPr>
          <p:spPr>
            <a:xfrm flipV="1">
              <a:off x="8682120" y="29844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ja mitte-IT firmad</a:t>
            </a:r>
            <a:endParaRPr b="1" lang="en-US" sz="2400" spc="-1" strike="noStrike">
              <a:solidFill>
                <a:srgbClr val="000099"/>
              </a:solidFill>
              <a:latin typeface="Bitstream Vera Sans"/>
            </a:endParaRPr>
          </a:p>
        </p:txBody>
      </p:sp>
      <p:sp>
        <p:nvSpPr>
          <p:cNvPr id="100" name="PlaceHolder 2"/>
          <p:cNvSpPr>
            <a:spLocks noGrp="1"/>
          </p:cNvSpPr>
          <p:nvPr>
            <p:ph/>
          </p:nvPr>
        </p:nvSpPr>
        <p:spPr>
          <a:xfrm>
            <a:off x="838080" y="990360"/>
            <a:ext cx="7848720" cy="5187960"/>
          </a:xfrm>
          <a:prstGeom prst="rect">
            <a:avLst/>
          </a:prstGeom>
          <a:noFill/>
          <a:ln w="0">
            <a:noFill/>
          </a:ln>
        </p:spPr>
        <p:txBody>
          <a:bodyPr lIns="92160" rIns="92160" tIns="46080" bIns="46080" anchor="t">
            <a:normAutofit/>
          </a:bodyPr>
          <a:p>
            <a:pPr marL="334800" indent="0">
              <a:lnSpc>
                <a:spcPct val="86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itte-IT firmal ei ole mingit IT-d (programmid, arvutid) loomu poolest vaja. </a:t>
            </a:r>
            <a:endParaRPr b="1" lang="en-US" sz="1800" spc="-1" strike="noStrike">
              <a:solidFill>
                <a:srgbClr val="000000"/>
              </a:solidFill>
              <a:latin typeface="Bitstream Vera Sans"/>
            </a:endParaRPr>
          </a:p>
          <a:p>
            <a:pPr marL="334800" indent="-33336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itte-IT firma vajab vahel IT-d kolmel põhjusel:</a:t>
            </a:r>
            <a:endParaRPr b="1" lang="en-US" sz="1800" spc="-1" strike="noStrike">
              <a:solidFill>
                <a:srgbClr val="000000"/>
              </a:solidFill>
              <a:latin typeface="Bitstream Vera Sans"/>
            </a:endParaRPr>
          </a:p>
          <a:p>
            <a:pPr lvl="1" marL="733320" indent="-27612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öötajatele meeldivad arvutid ja ilma arvutiteta töötades nõuaks nad rohkem palka (a la ilusad ruumid, külmutuskapp nurgas, kohvi jn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3320" indent="-27612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rvutiga midagi tehes saab mõne inimtöötaja lahti lasta ja palgakulu inimese peale oleks suurem, kui arvutisüsteemi ostmine, juurutamine ja edaspidine hooldus.</a:t>
            </a:r>
            <a:endParaRPr b="0" lang="en-US" sz="1800" spc="-1" strike="noStrike">
              <a:solidFill>
                <a:srgbClr val="000000"/>
              </a:solidFill>
              <a:latin typeface="Bitstream Vera Sans"/>
            </a:endParaRPr>
          </a:p>
          <a:p>
            <a:pPr lvl="1" marL="733320" indent="-27612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rvutiga saab teha midagi kasulikku, mida muidu üldse ei saaks teha.</a:t>
            </a:r>
            <a:endParaRPr b="0" lang="en-US" sz="1800" spc="-1" strike="noStrike">
              <a:solidFill>
                <a:srgbClr val="000000"/>
              </a:solidFill>
              <a:latin typeface="Bitstream Vera Sans"/>
            </a:endParaRPr>
          </a:p>
          <a:p>
            <a:pPr lvl="1" marL="733320" indent="0">
              <a:lnSpc>
                <a:spcPct val="86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marL="334800" indent="-33336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üüpiline mitte-IT-firma vajab abi oma arvutite ja programmide käimashoidmiseks ja töötajate aitamiseks, et arvutite ja programmidega hakkama saada.</a:t>
            </a:r>
            <a:endParaRPr b="1" lang="en-US" sz="1800" spc="-1" strike="noStrike">
              <a:solidFill>
                <a:srgbClr val="000000"/>
              </a:solidFill>
              <a:latin typeface="Bitstream Vera Sans"/>
            </a:endParaRPr>
          </a:p>
          <a:p>
            <a:pPr marL="334800" indent="0">
              <a:lnSpc>
                <a:spcPct val="86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8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üüpilisel mitte-IT-firmal ei ole üldiselt väga vaja uusi ja vingeid programme.</a:t>
            </a:r>
            <a:endParaRPr b="1" lang="en-US" sz="1800" spc="-1" strike="noStrike">
              <a:solidFill>
                <a:srgbClr val="000000"/>
              </a:solidFill>
              <a:latin typeface="Bitstream Vera Sans"/>
            </a:endParaRPr>
          </a:p>
        </p:txBody>
      </p:sp>
      <p:grpSp>
        <p:nvGrpSpPr>
          <p:cNvPr id="101" name="Group 3"/>
          <p:cNvGrpSpPr/>
          <p:nvPr/>
        </p:nvGrpSpPr>
        <p:grpSpPr>
          <a:xfrm>
            <a:off x="838080" y="374760"/>
            <a:ext cx="7766280" cy="311040"/>
            <a:chOff x="838080" y="374760"/>
            <a:chExt cx="7766280" cy="311040"/>
          </a:xfrm>
        </p:grpSpPr>
        <p:sp>
          <p:nvSpPr>
            <p:cNvPr id="10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d</a:t>
            </a:r>
            <a:endParaRPr b="1" lang="en-US" sz="2400" spc="-1" strike="noStrike">
              <a:solidFill>
                <a:srgbClr val="000099"/>
              </a:solidFill>
              <a:latin typeface="Bitstream Vera Sans"/>
            </a:endParaRPr>
          </a:p>
        </p:txBody>
      </p:sp>
      <p:sp>
        <p:nvSpPr>
          <p:cNvPr id="105" name="PlaceHolder 2"/>
          <p:cNvSpPr>
            <a:spLocks noGrp="1"/>
          </p:cNvSpPr>
          <p:nvPr>
            <p:ph/>
          </p:nvPr>
        </p:nvSpPr>
        <p:spPr>
          <a:xfrm>
            <a:off x="838080" y="990360"/>
            <a:ext cx="7848720" cy="5578200"/>
          </a:xfrm>
          <a:prstGeom prst="rect">
            <a:avLst/>
          </a:prstGeom>
          <a:noFill/>
          <a:ln w="0">
            <a:noFill/>
          </a:ln>
        </p:spPr>
        <p:txBody>
          <a:bodyPr lIns="92160" rIns="92160" tIns="46080" bIns="46080" anchor="t">
            <a:normAutofit/>
          </a:bodyPr>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lt järgmist tüüpi tegevused, nende sageduse kaupa eesti IT firmade osas (levinult vähemlevinule):</a:t>
            </a:r>
            <a:endParaRPr b="1" lang="en-US" sz="1800" spc="-1" strike="noStrike">
              <a:solidFill>
                <a:srgbClr val="000000"/>
              </a:solidFill>
              <a:latin typeface="Bitstream Vera Sans"/>
            </a:endParaRPr>
          </a:p>
          <a:p>
            <a:pPr marL="333360" indent="0">
              <a:lnSpc>
                <a:spcPct val="86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tandardsete arvutite ja tarkvara müük ja korrashoid (a la autosalong)</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rvutite kokkupanek tükkidest, müük ja korrashoid (a la ehitus ja hoonete hooldus, valve, remont jne)</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tandardse tarkvara kasutamise õpetamine ja korrashoid (a la autokool)</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eerulise standardtarkvara installeerimine, sättimine ja kasutamise õpetamine (tüüpiliselt majandustarkvara)</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rinevate standardtarkvara tükkide kokkupanemine, tüüpiliselt omakirjutatud programmide abil (integratsioon)</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Uue tarkvara tegemine vastavalt kliendi tellimusele</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Uue tarkvara tegemine laiemaks müügiks</a:t>
            </a:r>
            <a:endParaRPr b="0" lang="en-US" sz="1600" spc="-1" strike="noStrike">
              <a:solidFill>
                <a:srgbClr val="000000"/>
              </a:solidFill>
              <a:latin typeface="Bitstream Vera Sans"/>
            </a:endParaRPr>
          </a:p>
          <a:p>
            <a:pPr lvl="1" marL="73332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vinumad asjad on levinud, kuna:</a:t>
            </a: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ähemlevinud asjad on väga keerulised: leidub vähe inimesi, kes seda efektiivsel viisil teha mõistavad.</a:t>
            </a:r>
            <a:endParaRPr b="0" lang="en-US" sz="1600" spc="-1" strike="noStrike">
              <a:solidFill>
                <a:srgbClr val="000000"/>
              </a:solidFill>
              <a:latin typeface="Bitstream Vera Sans"/>
            </a:endParaRPr>
          </a:p>
          <a:p>
            <a:pPr lvl="1" marL="733320" indent="-27612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evinud asjade turg eesti sees on suurem (a la piimamüük eesti turul)</a:t>
            </a:r>
            <a:r>
              <a:rPr b="0" lang="en-GB" sz="1600" spc="-1" strike="noStrike">
                <a:solidFill>
                  <a:srgbClr val="000000"/>
                </a:solidFill>
                <a:latin typeface="Bitstream Vera Sans"/>
              </a:rPr>
              <a:t>‏</a:t>
            </a:r>
            <a:endParaRPr b="0" lang="en-US" sz="1600" spc="-1" strike="noStrike">
              <a:solidFill>
                <a:srgbClr val="000000"/>
              </a:solidFill>
              <a:latin typeface="Bitstream Vera Sans"/>
            </a:endParaRPr>
          </a:p>
          <a:p>
            <a:pPr lvl="1" marL="73332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06" name="Group 3"/>
          <p:cNvGrpSpPr/>
          <p:nvPr/>
        </p:nvGrpSpPr>
        <p:grpSpPr>
          <a:xfrm>
            <a:off x="838080" y="374760"/>
            <a:ext cx="7766280" cy="311040"/>
            <a:chOff x="838080" y="374760"/>
            <a:chExt cx="7766280" cy="311040"/>
          </a:xfrm>
        </p:grpSpPr>
        <p:sp>
          <p:nvSpPr>
            <p:cNvPr id="10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990360"/>
            <a:ext cx="7848720" cy="5105160"/>
          </a:xfrm>
          <a:prstGeom prst="rect">
            <a:avLst/>
          </a:prstGeom>
          <a:noFill/>
          <a:ln w="0">
            <a:noFill/>
          </a:ln>
        </p:spPr>
        <p:txBody>
          <a:bodyPr lIns="92160" rIns="92160" tIns="46080" bIns="46080" anchor="t">
            <a:normAutofit/>
          </a:bodyPr>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st saada ruttu natuke rah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saadud rahaga teh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mõni projekt maha müü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hu ja kes mõne toote maha suudaks müü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llega rahvas õieti hetkel tegeleb?</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projekti peaks Jaani tegema panem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sobiks Antsu õpetam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ks Ain korralikult tööd ei tee, kas ja kuidas teda trahvid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teeks X projekti koolituse?</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eha pakkumine Y projekti jaoks või ei jõu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uleks Rein vallandada, ja kuidas?</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õtta Agu tööle ja kui palju palka maksta?</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ahetada internetiprovaiderit ja kes selle orgainiks?</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millal teha koosolekud?</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sisse projektide aruandlus?</a:t>
            </a:r>
            <a:endParaRPr b="1" lang="en-US" sz="1800" spc="-1" strike="noStrike">
              <a:solidFill>
                <a:srgbClr val="000000"/>
              </a:solidFill>
              <a:latin typeface="Bitstream Vera Sans"/>
            </a:endParaRPr>
          </a:p>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86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1" name="Group 3"/>
          <p:cNvGrpSpPr/>
          <p:nvPr/>
        </p:nvGrpSpPr>
        <p:grpSpPr>
          <a:xfrm>
            <a:off x="838080" y="374760"/>
            <a:ext cx="7766280" cy="311040"/>
            <a:chOff x="838080" y="374760"/>
            <a:chExt cx="7766280" cy="311040"/>
          </a:xfrm>
        </p:grpSpPr>
        <p:sp>
          <p:nvSpPr>
            <p:cNvPr id="11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11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3360" indent="-333360">
              <a:lnSpc>
                <a:spcPct val="8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on väga pingutav ja annab üldiselt pidevaid negatiivseid emotsioone:</a:t>
            </a:r>
            <a:endParaRPr b="1" lang="en-US" sz="1800" spc="-1" strike="noStrike">
              <a:solidFill>
                <a:srgbClr val="000000"/>
              </a:solidFill>
              <a:latin typeface="Bitstream Vera Sans"/>
            </a:endParaRPr>
          </a:p>
          <a:p>
            <a:pPr marL="333360" indent="0">
              <a:lnSpc>
                <a:spcPct val="104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ästi välja tuleb, on see loomulik või tänu tegijale.</a:t>
            </a:r>
            <a:endParaRPr b="0" lang="en-US" sz="1600" spc="-1" strike="noStrike">
              <a:solidFill>
                <a:srgbClr val="000000"/>
              </a:solidFill>
              <a:latin typeface="Bitstream Vera Sans"/>
            </a:endParaRPr>
          </a:p>
          <a:p>
            <a:pPr lvl="1" marL="733320" indent="-27612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alvasti välja tuleb, on operatiivne juht alati süüdi!</a:t>
            </a:r>
            <a:endParaRPr b="0" lang="en-US" sz="1600" spc="-1" strike="noStrike">
              <a:solidFill>
                <a:srgbClr val="000000"/>
              </a:solidFill>
              <a:latin typeface="Bitstream Vera Sans"/>
            </a:endParaRPr>
          </a:p>
          <a:p>
            <a:pPr lvl="1" marL="733320" indent="-27612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da rohkem on sul alluvaid, seda tihedamini teevad nad vigu ja seda tihedamini oled sa süüdi (praktiliselt kogu aeg) ja pead organiseerima vigade parandust.</a:t>
            </a:r>
            <a:endParaRPr b="0" lang="en-US" sz="1600" spc="-1" strike="noStrike">
              <a:solidFill>
                <a:srgbClr val="000000"/>
              </a:solidFill>
              <a:latin typeface="Bitstream Vera Sans"/>
            </a:endParaRPr>
          </a:p>
          <a:p>
            <a:pPr lvl="1" marL="733320" indent="-276120">
              <a:lnSpc>
                <a:spcPct val="104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õpuks on kõiges süüdi juhtkond: kui alluv teeb vea, on juht süüdi, et ta andis võimaluse viga teha või selle inimese üldse tööle võttis.</a:t>
            </a:r>
            <a:endParaRPr b="0" lang="en-US" sz="1600" spc="-1" strike="noStrike">
              <a:solidFill>
                <a:srgbClr val="000000"/>
              </a:solidFill>
              <a:latin typeface="Bitstream Vera Sans"/>
            </a:endParaRPr>
          </a:p>
          <a:p>
            <a:pPr lvl="1" marL="733320" indent="0">
              <a:lnSpc>
                <a:spcPct val="104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3360" indent="-33336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nõuab väga tugevat närvi (pikaajaliselt!) ja pidevat inimestega suhtlemist, seejuures enamasti negatiivsete olukordade lahendamist</a:t>
            </a:r>
            <a:endParaRPr b="1" lang="en-US" sz="1800" spc="-1" strike="noStrike">
              <a:solidFill>
                <a:srgbClr val="000000"/>
              </a:solidFill>
              <a:latin typeface="Bitstream Vera Sans"/>
            </a:endParaRPr>
          </a:p>
          <a:p>
            <a:pPr marL="333360" indent="-33336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Harvey Keiteli mängitud roll “Pulp Fictionis”.</a:t>
            </a:r>
            <a:endParaRPr b="1" lang="en-US" sz="1800" spc="-1" strike="noStrike">
              <a:solidFill>
                <a:srgbClr val="000000"/>
              </a:solidFill>
              <a:latin typeface="Bitstream Vera Sans"/>
            </a:endParaRPr>
          </a:p>
          <a:p>
            <a:pPr marL="333360" indent="-333360">
              <a:lnSpc>
                <a:spcPct val="104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Sopranode peategelane: tüüpiline operatiivjuht.</a:t>
            </a:r>
            <a:endParaRPr b="1" lang="en-US" sz="1800" spc="-1" strike="noStrike">
              <a:solidFill>
                <a:srgbClr val="000000"/>
              </a:solidFill>
              <a:latin typeface="Bitstream Vera Sans"/>
            </a:endParaRPr>
          </a:p>
        </p:txBody>
      </p:sp>
      <p:grpSp>
        <p:nvGrpSpPr>
          <p:cNvPr id="116" name="Group 3"/>
          <p:cNvGrpSpPr/>
          <p:nvPr/>
        </p:nvGrpSpPr>
        <p:grpSpPr>
          <a:xfrm>
            <a:off x="838080" y="374760"/>
            <a:ext cx="7766280" cy="311040"/>
            <a:chOff x="838080" y="374760"/>
            <a:chExt cx="7766280" cy="311040"/>
          </a:xfrm>
        </p:grpSpPr>
        <p:sp>
          <p:nvSpPr>
            <p:cNvPr id="11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õhiprobleemid arendajate juhtimisel</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990360"/>
            <a:ext cx="7848720" cy="5368680"/>
          </a:xfrm>
          <a:prstGeom prst="rect">
            <a:avLst/>
          </a:prstGeom>
          <a:noFill/>
          <a:ln w="0">
            <a:noFill/>
          </a:ln>
        </p:spPr>
        <p:txBody>
          <a:bodyPr lIns="92160" rIns="92160" tIns="46080" bIns="46080" anchor="t">
            <a:normAutofit/>
          </a:bodyPr>
          <a:p>
            <a:pPr marL="334800" indent="0">
              <a:lnSpc>
                <a:spcPct val="86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Efektiivne juht peab valdama tehnoloogiat, et suuta hinnata ajakulusid, tehnoloogia valiku sobivust jne.</a:t>
            </a: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rendustöö on loominguline. Vaja on leida kompromiss vaba loomingu ja reeglite ning tähtaegade ning riskimaandamise vahel.</a:t>
            </a: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rendajatel on tüüpiliselt väga kõrge enesehinnang:</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ad on tihti veendunud, et teavad ise kõige paremini, kuidas midagi teha: vahel õige, vahel üldse mitt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Hindavad oma planeeritavat ajakulu 2-10 korda alla tegelikku.</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Vaatavad rakendust oma vaatevinklist, mitte kasutaja vaatevinklist (a la kasutaja on niikuinii loll, aga küll ta saab kõigega hakkama, mis ma programmi panen).</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ageli suhtlevad halvasti, ei oska hästi inimkeelseid jutte kirjutada</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jne</a:t>
            </a:r>
            <a:endParaRPr b="0" lang="en-US" sz="1800" spc="-1" strike="noStrike">
              <a:solidFill>
                <a:srgbClr val="000000"/>
              </a:solidFill>
              <a:latin typeface="Bitstream Vera Sans"/>
            </a:endParaRPr>
          </a:p>
        </p:txBody>
      </p:sp>
      <p:grpSp>
        <p:nvGrpSpPr>
          <p:cNvPr id="121" name="Group 3"/>
          <p:cNvGrpSpPr/>
          <p:nvPr/>
        </p:nvGrpSpPr>
        <p:grpSpPr>
          <a:xfrm>
            <a:off x="838080" y="374760"/>
            <a:ext cx="7766280" cy="311040"/>
            <a:chOff x="838080" y="374760"/>
            <a:chExt cx="7766280" cy="311040"/>
          </a:xfrm>
        </p:grpSpPr>
        <p:sp>
          <p:nvSpPr>
            <p:cNvPr id="12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a:t>
            </a:r>
            <a:r>
              <a:rPr b="1" lang="et-EE" sz="2400" spc="-1" strike="noStrike">
                <a:solidFill>
                  <a:srgbClr val="000099"/>
                </a:solidFill>
                <a:latin typeface="Bitstream Vera Sans"/>
              </a:rPr>
              <a:t>tüüpilised </a:t>
            </a:r>
            <a:r>
              <a:rPr b="1" lang="en-GB" sz="2400" spc="-1" strike="noStrike">
                <a:solidFill>
                  <a:srgbClr val="000099"/>
                </a:solidFill>
                <a:latin typeface="Bitstream Vera Sans"/>
              </a:rPr>
              <a:t>etapid</a:t>
            </a: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990720"/>
            <a:ext cx="7848720" cy="586080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etapid:</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üük</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ping</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isatsioon</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isemine testimine ja sätti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ga testimine ja sätti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kumentatsioon</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litus</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vastuvõtmine ja arvelda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etus ja sättimine</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Group 3"/>
          <p:cNvGrpSpPr/>
          <p:nvPr/>
        </p:nvGrpSpPr>
        <p:grpSpPr>
          <a:xfrm>
            <a:off x="838080" y="374760"/>
            <a:ext cx="7766280" cy="311040"/>
            <a:chOff x="838080" y="374760"/>
            <a:chExt cx="7766280" cy="311040"/>
          </a:xfrm>
        </p:grpSpPr>
        <p:sp>
          <p:nvSpPr>
            <p:cNvPr id="12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29" name="Line 6"/>
          <p:cNvSpPr/>
          <p:nvPr/>
        </p:nvSpPr>
        <p:spPr>
          <a:xfrm flipH="1">
            <a:off x="3266640" y="1828800"/>
            <a:ext cx="222876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 name="Line 7"/>
          <p:cNvSpPr/>
          <p:nvPr/>
        </p:nvSpPr>
        <p:spPr>
          <a:xfrm flipH="1">
            <a:off x="4334040" y="3200400"/>
            <a:ext cx="146664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Line 8"/>
          <p:cNvSpPr/>
          <p:nvPr/>
        </p:nvSpPr>
        <p:spPr>
          <a:xfrm flipH="1">
            <a:off x="4562640" y="4952880"/>
            <a:ext cx="1466640" cy="3812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32" name="Group 9"/>
          <p:cNvGrpSpPr/>
          <p:nvPr/>
        </p:nvGrpSpPr>
        <p:grpSpPr>
          <a:xfrm>
            <a:off x="5851440" y="1432080"/>
            <a:ext cx="2260800" cy="334800"/>
            <a:chOff x="5851440" y="1432080"/>
            <a:chExt cx="2260800" cy="334800"/>
          </a:xfrm>
        </p:grpSpPr>
        <p:sp>
          <p:nvSpPr>
            <p:cNvPr id="133" name="AutoShape 10"/>
            <p:cNvSpPr/>
            <p:nvPr/>
          </p:nvSpPr>
          <p:spPr>
            <a:xfrm>
              <a:off x="5851440" y="1432080"/>
              <a:ext cx="2260800" cy="3348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 name="AutoShape 11"/>
            <p:cNvSpPr/>
            <p:nvPr/>
          </p:nvSpPr>
          <p:spPr>
            <a:xfrm>
              <a:off x="5852520" y="1432080"/>
              <a:ext cx="225252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Ettevalmistavad osad</a:t>
              </a:r>
              <a:endParaRPr b="0" lang="en-US" sz="1600" spc="-1" strike="noStrike">
                <a:solidFill>
                  <a:srgbClr val="ffffff"/>
                </a:solidFill>
                <a:latin typeface="Times New Roman"/>
              </a:endParaRPr>
            </a:p>
          </p:txBody>
        </p:sp>
      </p:grpSp>
      <p:grpSp>
        <p:nvGrpSpPr>
          <p:cNvPr id="135" name="Group 12"/>
          <p:cNvGrpSpPr/>
          <p:nvPr/>
        </p:nvGrpSpPr>
        <p:grpSpPr>
          <a:xfrm>
            <a:off x="5927760" y="2955960"/>
            <a:ext cx="1617480" cy="334800"/>
            <a:chOff x="5927760" y="2955960"/>
            <a:chExt cx="1617480" cy="334800"/>
          </a:xfrm>
        </p:grpSpPr>
        <p:sp>
          <p:nvSpPr>
            <p:cNvPr id="136" name="AutoShape 13"/>
            <p:cNvSpPr/>
            <p:nvPr/>
          </p:nvSpPr>
          <p:spPr>
            <a:xfrm>
              <a:off x="5927760" y="2955960"/>
              <a:ext cx="1617480" cy="3348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AutoShape 14"/>
            <p:cNvSpPr/>
            <p:nvPr/>
          </p:nvSpPr>
          <p:spPr>
            <a:xfrm>
              <a:off x="5932080" y="2955960"/>
              <a:ext cx="16124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Realiseerimine</a:t>
              </a:r>
              <a:endParaRPr b="0" lang="en-US" sz="1600" spc="-1" strike="noStrike">
                <a:solidFill>
                  <a:srgbClr val="ffffff"/>
                </a:solidFill>
                <a:latin typeface="Times New Roman"/>
              </a:endParaRPr>
            </a:p>
          </p:txBody>
        </p:sp>
      </p:grpSp>
      <p:grpSp>
        <p:nvGrpSpPr>
          <p:cNvPr id="138" name="Group 15"/>
          <p:cNvGrpSpPr/>
          <p:nvPr/>
        </p:nvGrpSpPr>
        <p:grpSpPr>
          <a:xfrm>
            <a:off x="6156360" y="4556160"/>
            <a:ext cx="2521080" cy="334800"/>
            <a:chOff x="6156360" y="4556160"/>
            <a:chExt cx="2521080" cy="334800"/>
          </a:xfrm>
        </p:grpSpPr>
        <p:sp>
          <p:nvSpPr>
            <p:cNvPr id="139" name="AutoShape 16"/>
            <p:cNvSpPr/>
            <p:nvPr/>
          </p:nvSpPr>
          <p:spPr>
            <a:xfrm>
              <a:off x="6156360" y="4556160"/>
              <a:ext cx="2521080" cy="3348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AutoShape 17"/>
            <p:cNvSpPr/>
            <p:nvPr/>
          </p:nvSpPr>
          <p:spPr>
            <a:xfrm>
              <a:off x="6158880" y="4556160"/>
              <a:ext cx="250848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Lõpetamine ja jätkutööd</a:t>
              </a:r>
              <a:endParaRPr b="0" lang="en-US" sz="1600" spc="-1" strike="noStrike">
                <a:solidFill>
                  <a:srgbClr val="ffffff"/>
                </a:solidFill>
                <a:latin typeface="Times New Roman"/>
              </a:endParaRPr>
            </a:p>
          </p:txBody>
        </p:sp>
      </p:grpSp>
      <p:sp>
        <p:nvSpPr>
          <p:cNvPr id="141" name="Line 18"/>
          <p:cNvSpPr/>
          <p:nvPr/>
        </p:nvSpPr>
        <p:spPr>
          <a:xfrm flipV="1">
            <a:off x="533520" y="2276280"/>
            <a:ext cx="685800" cy="85716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Line 19"/>
          <p:cNvSpPr/>
          <p:nvPr/>
        </p:nvSpPr>
        <p:spPr>
          <a:xfrm flipV="1">
            <a:off x="685800" y="3191040"/>
            <a:ext cx="533520" cy="950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43" name="Group 20"/>
          <p:cNvGrpSpPr/>
          <p:nvPr/>
        </p:nvGrpSpPr>
        <p:grpSpPr>
          <a:xfrm>
            <a:off x="-10080" y="3352680"/>
            <a:ext cx="1600200" cy="2386080"/>
            <a:chOff x="-10080" y="3352680"/>
            <a:chExt cx="1600200" cy="2386080"/>
          </a:xfrm>
        </p:grpSpPr>
        <p:sp>
          <p:nvSpPr>
            <p:cNvPr id="144" name="AutoShape 21"/>
            <p:cNvSpPr/>
            <p:nvPr/>
          </p:nvSpPr>
          <p:spPr>
            <a:xfrm>
              <a:off x="0" y="3352680"/>
              <a:ext cx="1305000" cy="2386080"/>
            </a:xfrm>
            <a:custGeom>
              <a:avLst/>
              <a:gdLst>
                <a:gd name="textAreaLeft" fmla="*/ 360 w 1305000"/>
                <a:gd name="textAreaRight" fmla="*/ 1304640 w 1305000"/>
                <a:gd name="textAreaTop" fmla="*/ 360 h 2386080"/>
                <a:gd name="textAreaBottom" fmla="*/ 2385720 h 2386080"/>
              </a:gdLst>
              <a:ahLst/>
              <a:rect l="textAreaLeft" t="textAreaTop" r="textAreaRight" b="textAreaBottom"/>
              <a:pathLst>
                <a:path w="21600" h="39489">
                  <a:moveTo>
                    <a:pt x="26" y="0"/>
                  </a:moveTo>
                  <a:arcTo wR="26" hR="26" stAng="16200000" swAng="-5400000"/>
                  <a:lnTo>
                    <a:pt x="0" y="39463"/>
                  </a:lnTo>
                  <a:arcTo wR="26" hR="26" stAng="10800000" swAng="-5400000"/>
                  <a:lnTo>
                    <a:pt x="21574" y="39489"/>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AutoShape 22"/>
            <p:cNvSpPr/>
            <p:nvPr/>
          </p:nvSpPr>
          <p:spPr>
            <a:xfrm>
              <a:off x="-10080" y="3352680"/>
              <a:ext cx="1600200" cy="2174760"/>
            </a:xfrm>
            <a:custGeom>
              <a:avLst/>
              <a:gdLst>
                <a:gd name="textAreaLeft" fmla="*/ 360 w 1600200"/>
                <a:gd name="textAreaRight" fmla="*/ 1599840 w 1600200"/>
                <a:gd name="textAreaTop" fmla="*/ 360 h 2174760"/>
                <a:gd name="textAreaBottom" fmla="*/ 2174400 h 2174760"/>
              </a:gdLst>
              <a:ahLst/>
              <a:rect l="textAreaLeft" t="textAreaTop" r="textAreaRight" b="textAreaBottom"/>
              <a:pathLst>
                <a:path w="21600" h="29354">
                  <a:moveTo>
                    <a:pt x="26" y="0"/>
                  </a:moveTo>
                  <a:arcTo wR="26" hR="26" stAng="16200000" swAng="-5400000"/>
                  <a:lnTo>
                    <a:pt x="0" y="29328"/>
                  </a:lnTo>
                  <a:arcTo wR="26" hR="26" stAng="10800000" swAng="-5400000"/>
                  <a:lnTo>
                    <a:pt x="21574" y="29354"/>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nalüüs</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ähendab,</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et pannakse</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irja, mid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kasutaj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rakendusest</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egelikult</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vajab ja</a:t>
              </a:r>
              <a:endParaRPr b="0" lang="en-US" sz="1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tahab</a:t>
              </a:r>
              <a:endParaRPr b="0" lang="en-US" sz="1600" spc="-1" strike="noStrike">
                <a:solidFill>
                  <a:srgbClr val="ffffff"/>
                </a:solidFill>
                <a:latin typeface="Times New Roman"/>
              </a:endParaRPr>
            </a:p>
          </p:txBody>
        </p:sp>
      </p:grpSp>
      <p:sp>
        <p:nvSpPr>
          <p:cNvPr id="146" name="Line 23"/>
          <p:cNvSpPr/>
          <p:nvPr/>
        </p:nvSpPr>
        <p:spPr>
          <a:xfrm flipH="1">
            <a:off x="2504880" y="2819520"/>
            <a:ext cx="704520" cy="53316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47" name="Group 24"/>
          <p:cNvGrpSpPr/>
          <p:nvPr/>
        </p:nvGrpSpPr>
        <p:grpSpPr>
          <a:xfrm>
            <a:off x="3200400" y="2590920"/>
            <a:ext cx="1300320" cy="334800"/>
            <a:chOff x="3200400" y="2590920"/>
            <a:chExt cx="1300320" cy="334800"/>
          </a:xfrm>
        </p:grpSpPr>
        <p:sp>
          <p:nvSpPr>
            <p:cNvPr id="148" name="AutoShape 25"/>
            <p:cNvSpPr/>
            <p:nvPr/>
          </p:nvSpPr>
          <p:spPr>
            <a:xfrm>
              <a:off x="3200400" y="2590920"/>
              <a:ext cx="1300320" cy="3348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AutoShape 26"/>
            <p:cNvSpPr/>
            <p:nvPr/>
          </p:nvSpPr>
          <p:spPr>
            <a:xfrm>
              <a:off x="3202920" y="2590920"/>
              <a:ext cx="1295640" cy="32076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kuidas teha</a:t>
              </a:r>
              <a:endParaRPr b="0" lang="en-US" sz="16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 ja juhtimine</a:t>
            </a:r>
            <a:endParaRPr b="1" lang="en-US" sz="2400" spc="-1" strike="noStrike">
              <a:solidFill>
                <a:srgbClr val="000099"/>
              </a:solidFill>
              <a:latin typeface="Bitstream Vera Sans"/>
            </a:endParaRPr>
          </a:p>
        </p:txBody>
      </p:sp>
      <p:sp>
        <p:nvSpPr>
          <p:cNvPr id="15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juhtimine:</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lkuleerimine: kui palju tööjõudu, aega, raha?</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projekti etappides tööd teevad?</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keda võtta vajadusel lisaks appi?</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plaani koostamine ja ajagraafik</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jooksev planeerimine (nädal)</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aruandlus</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öötajate utsitamine, veenmine, rahustamine, hoogustamine ...</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 utsitamine, veenmine, rahustamine, hoogustamine ...</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Group 3"/>
          <p:cNvGrpSpPr/>
          <p:nvPr/>
        </p:nvGrpSpPr>
        <p:grpSpPr>
          <a:xfrm>
            <a:off x="838080" y="374760"/>
            <a:ext cx="7766280" cy="311040"/>
            <a:chOff x="838080" y="374760"/>
            <a:chExt cx="7766280" cy="311040"/>
          </a:xfrm>
        </p:grpSpPr>
        <p:sp>
          <p:nvSpPr>
            <p:cNvPr id="153"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4"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fosüsteemi loomise etapid</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990360"/>
            <a:ext cx="7848720" cy="5514840"/>
          </a:xfrm>
          <a:prstGeom prst="rect">
            <a:avLst/>
          </a:prstGeom>
          <a:noFill/>
          <a:ln w="0">
            <a:noFill/>
          </a:ln>
        </p:spPr>
        <p:txBody>
          <a:bodyPr lIns="92160" rIns="92160" tIns="46080" bIns="46080" anchor="t">
            <a:normAutofit/>
          </a:bodyPr>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assikalistes käsitlustes koosneb infosüsteemi loomine järgmistest etappidest:</a:t>
            </a:r>
            <a:endParaRPr b="1"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 ja valik</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eerimine </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ostus</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urutamine </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ine</a:t>
            </a:r>
            <a:endParaRPr b="0" lang="en-US" sz="1800" spc="-1" strike="noStrike">
              <a:solidFill>
                <a:srgbClr val="000000"/>
              </a:solidFill>
              <a:latin typeface="Bitstream Vera Sans"/>
            </a:endParaRPr>
          </a:p>
          <a:p>
            <a:pPr lvl="2" marL="1143000" indent="0" algn="just">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B! </a:t>
            </a:r>
            <a:r>
              <a:rPr b="0" lang="en-GB" sz="1800" spc="-1" strike="noStrike">
                <a:solidFill>
                  <a:srgbClr val="000000"/>
                </a:solidFill>
                <a:latin typeface="Bitstream Vera Sans"/>
              </a:rPr>
              <a:t>Seda jaotust ei tohi võtta sõnasõnalt: </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nii, et enne tehakse üks, siis teine, siis kolmas: reeglina on parem teha neid asju paralleelselt või tsüklitena üha uuesti ja uuesti.</a:t>
            </a:r>
            <a:endParaRPr b="0" lang="en-US" sz="1800" spc="-1" strike="noStrike">
              <a:solidFill>
                <a:srgbClr val="000000"/>
              </a:solidFill>
              <a:latin typeface="Bitstream Vera Sans"/>
            </a:endParaRPr>
          </a:p>
          <a:p>
            <a:pPr lvl="1" marL="733320" indent="-276120">
              <a:lnSpc>
                <a:spcPct val="95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a:t>
            </a:r>
            <a:r>
              <a:rPr b="0" lang="et-EE" sz="1800" spc="-1" strike="noStrike">
                <a:solidFill>
                  <a:srgbClr val="000000"/>
                </a:solidFill>
                <a:latin typeface="Bitstream Vera Sans"/>
              </a:rPr>
              <a:t>alati </a:t>
            </a:r>
            <a:r>
              <a:rPr b="0" lang="en-GB" sz="1800" spc="-1" strike="noStrike">
                <a:solidFill>
                  <a:srgbClr val="000000"/>
                </a:solidFill>
                <a:latin typeface="Bitstream Vera Sans"/>
              </a:rPr>
              <a:t>nii, et analüütik teeb analüüsi, projekteerija projekteerib, teostaja teostab: arendajal on vaja osata kõiki neid asju teha!!</a:t>
            </a:r>
            <a:endParaRPr b="0"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7" name="Group 3"/>
          <p:cNvGrpSpPr/>
          <p:nvPr/>
        </p:nvGrpSpPr>
        <p:grpSpPr>
          <a:xfrm>
            <a:off x="838080" y="374760"/>
            <a:ext cx="7766280" cy="311040"/>
            <a:chOff x="838080" y="374760"/>
            <a:chExt cx="7766280" cy="311040"/>
          </a:xfrm>
        </p:grpSpPr>
        <p:sp>
          <p:nvSpPr>
            <p:cNvPr id="158"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gelikud põhireeglid</a:t>
            </a:r>
            <a:endParaRPr b="1" lang="en-US" sz="2400" spc="-1" strike="noStrike">
              <a:solidFill>
                <a:srgbClr val="000099"/>
              </a:solidFill>
              <a:latin typeface="Bitstream Vera Sans"/>
            </a:endParaRPr>
          </a:p>
        </p:txBody>
      </p:sp>
      <p:sp>
        <p:nvSpPr>
          <p:cNvPr id="161" name="PlaceHolder 2"/>
          <p:cNvSpPr>
            <a:spLocks noGrp="1"/>
          </p:cNvSpPr>
          <p:nvPr>
            <p:ph/>
          </p:nvPr>
        </p:nvSpPr>
        <p:spPr>
          <a:xfrm>
            <a:off x="838080" y="990360"/>
            <a:ext cx="7848720" cy="5127480"/>
          </a:xfrm>
          <a:prstGeom prst="rect">
            <a:avLst/>
          </a:prstGeom>
          <a:noFill/>
          <a:ln w="0">
            <a:noFill/>
          </a:ln>
        </p:spPr>
        <p:txBody>
          <a:bodyPr lIns="92160" rIns="92160" tIns="46080" bIns="46080" anchor="t">
            <a:normAutofit/>
          </a:bodyPr>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indlaid reegleid ei ole. </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e töö eesmärk firma jaoks on ruttu rohkem raha teenida.</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e töö eesmärk kliendi jaoks on kliendi tuju tõsta.</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toodikate kohta tasub lugeda ja uurida, aga </a:t>
            </a:r>
            <a:r>
              <a:rPr b="1" lang="en-GB" sz="1800" spc="-1" strike="noStrike">
                <a:solidFill>
                  <a:srgbClr val="000000"/>
                </a:solidFill>
                <a:latin typeface="Bitstream Vera Sans"/>
              </a:rPr>
              <a:t>mitte jälgida orjalikult ühtegi metoodik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 keegi ei tee sinu eest midagi ära:  enamasti mitte keegi ei tee sulle speci, keegi ei tee sulle analüüsi jne: need tuleb </a:t>
            </a:r>
            <a:r>
              <a:rPr b="1" lang="en-GB" sz="1800" spc="-1" strike="noStrike">
                <a:solidFill>
                  <a:srgbClr val="000000"/>
                </a:solidFill>
                <a:latin typeface="Bitstream Vera Sans"/>
              </a:rPr>
              <a:t>ise</a:t>
            </a:r>
            <a:r>
              <a:rPr b="0" lang="en-GB" sz="1800" spc="-1" strike="noStrike">
                <a:solidFill>
                  <a:srgbClr val="000000"/>
                </a:solidFill>
                <a:latin typeface="Bitstream Vera Sans"/>
              </a:rPr>
              <a:t> teha.</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aja peab sisse elama kliendi igapäevatöösse ja seda väga hästi valdama! Ainult siis on võimalik aru saada, mida klient vajab ja mis teda aitab.</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ga peab pidevalt suhtlema ja teda sundima kasutama pooltoorest funktsionaalsust: ei tohi teha "enne kõik valmis", kui asi kasutusse läheb.</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ati tuleb teha nii vähe funktsionaalsust, kui võimalik.</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ltige kõike, millest klient aru ei saa.</a:t>
            </a:r>
            <a:endParaRPr b="1" lang="en-US" sz="1800" spc="-1" strike="noStrike">
              <a:solidFill>
                <a:srgbClr val="000000"/>
              </a:solidFill>
              <a:latin typeface="Bitstream Vera Sans"/>
            </a:endParaRPr>
          </a:p>
          <a:p>
            <a:pPr marL="333360" indent="-333360" algn="just">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ole olemas mingeid imenõkse ja supertehnoloogiaid.</a:t>
            </a:r>
            <a:endParaRPr b="1" lang="en-US" sz="1800" spc="-1" strike="noStrike">
              <a:solidFill>
                <a:srgbClr val="000000"/>
              </a:solidFill>
              <a:latin typeface="Bitstream Vera Sans"/>
            </a:endParaRPr>
          </a:p>
        </p:txBody>
      </p:sp>
      <p:grpSp>
        <p:nvGrpSpPr>
          <p:cNvPr id="162" name="Group 3"/>
          <p:cNvGrpSpPr/>
          <p:nvPr/>
        </p:nvGrpSpPr>
        <p:grpSpPr>
          <a:xfrm>
            <a:off x="838080" y="374760"/>
            <a:ext cx="7766280" cy="311040"/>
            <a:chOff x="838080" y="374760"/>
            <a:chExt cx="7766280" cy="311040"/>
          </a:xfrm>
        </p:grpSpPr>
        <p:sp>
          <p:nvSpPr>
            <p:cNvPr id="163"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4"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990360"/>
            <a:ext cx="7848720" cy="5190840"/>
          </a:xfrm>
          <a:prstGeom prst="rect">
            <a:avLst/>
          </a:prstGeom>
          <a:noFill/>
          <a:ln w="0">
            <a:noFill/>
          </a:ln>
        </p:spPr>
        <p:txBody>
          <a:bodyPr lIns="92160" rIns="92160" tIns="46080" bIns="46080" anchor="t">
            <a:normAutofit/>
          </a:bodyPr>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Juhtimine - teema, komponendid</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trateegiline juhtimine</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Dot-com mulli ülevaade</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jektid ja inimeste juhtimine</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Arendusetapid</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gelikud põhireeglid</a:t>
            </a:r>
            <a:endParaRPr b="1" lang="en-US" sz="2000" spc="-1" strike="noStrike">
              <a:solidFill>
                <a:srgbClr val="000000"/>
              </a:solidFill>
              <a:latin typeface="Bitstream Vera Sans"/>
            </a:endParaRPr>
          </a:p>
          <a:p>
            <a:pPr marL="333360" indent="-333360">
              <a:lnSpc>
                <a:spcPct val="86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000" spc="-1" strike="noStrike">
                <a:solidFill>
                  <a:srgbClr val="000000"/>
                </a:solidFill>
                <a:latin typeface="Bitstream Vera Sans"/>
              </a:rPr>
              <a:t>Waterfall ja agile</a:t>
            </a:r>
            <a:endParaRPr b="1" lang="en-US" sz="2000" spc="-1" strike="noStrike">
              <a:solidFill>
                <a:srgbClr val="000000"/>
              </a:solidFill>
              <a:latin typeface="Bitstream Vera Sans"/>
            </a:endParaRPr>
          </a:p>
          <a:p>
            <a:pPr marL="333360" indent="0">
              <a:lnSpc>
                <a:spcPct val="86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ffffff"/>
                </a:solidFill>
                <a:latin typeface="Bitstream Vera Sans"/>
              </a:rPr>
              <a:t>etse programmeerimiskeele</a:t>
            </a:r>
            <a:endParaRPr b="1" lang="en-US" sz="1600" spc="-1" strike="noStrike">
              <a:solidFill>
                <a:srgbClr val="000000"/>
              </a:solidFill>
              <a:latin typeface="Bitstream Vera Sans"/>
            </a:endParaRPr>
          </a:p>
        </p:txBody>
      </p:sp>
      <p:grpSp>
        <p:nvGrpSpPr>
          <p:cNvPr id="56" name="Group 3"/>
          <p:cNvGrpSpPr/>
          <p:nvPr/>
        </p:nvGrpSpPr>
        <p:grpSpPr>
          <a:xfrm>
            <a:off x="838080" y="374760"/>
            <a:ext cx="7766280" cy="311040"/>
            <a:chOff x="838080" y="374760"/>
            <a:chExt cx="7766280" cy="311040"/>
          </a:xfrm>
        </p:grpSpPr>
        <p:sp>
          <p:nvSpPr>
            <p:cNvPr id="5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ma, komponendid</a:t>
            </a:r>
            <a:endParaRPr b="1" lang="en-US" sz="2400" spc="-1" strike="noStrike">
              <a:solidFill>
                <a:srgbClr val="000099"/>
              </a:solidFill>
              <a:latin typeface="Bitstream Vera Sans"/>
            </a:endParaRPr>
          </a:p>
        </p:txBody>
      </p:sp>
      <p:grpSp>
        <p:nvGrpSpPr>
          <p:cNvPr id="60" name="Group 2"/>
          <p:cNvGrpSpPr/>
          <p:nvPr/>
        </p:nvGrpSpPr>
        <p:grpSpPr>
          <a:xfrm>
            <a:off x="838080" y="374760"/>
            <a:ext cx="7766280" cy="311040"/>
            <a:chOff x="838080" y="374760"/>
            <a:chExt cx="7766280" cy="311040"/>
          </a:xfrm>
        </p:grpSpPr>
        <p:sp>
          <p:nvSpPr>
            <p:cNvPr id="61" name="Line 3"/>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Line 4"/>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3"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htimine on hägune ja kõikehõlmav teem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Bitstream Vera Sans"/>
              </a:rPr>
              <a:t>Juhtimise „õppimine“ puhtalt koolis ei ole võimalik</a:t>
            </a:r>
            <a:endParaRPr b="1" lang="en-US" sz="1800" spc="-1" strike="noStrike">
              <a:solidFill>
                <a:srgbClr val="000000"/>
              </a:solidFill>
              <a:latin typeface="Bitstream Vera Sans"/>
            </a:endParaRPr>
          </a:p>
          <a:p>
            <a:pPr marL="333360" indent="0">
              <a:lnSpc>
                <a:spcPct val="95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onente:</a:t>
            </a:r>
            <a:endParaRPr b="1"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sikute juhti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ateegia väljatööta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nantsjuhti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rsonalipoliitika</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de juhtimine</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Bitstream Vera Sans"/>
              </a:rPr>
              <a:t>Müük</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tlused</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uplemine</a:t>
            </a:r>
            <a:endParaRPr b="0" lang="en-US" sz="1800" spc="-1" strike="noStrike">
              <a:solidFill>
                <a:srgbClr val="000000"/>
              </a:solidFill>
              <a:latin typeface="Bitstream Vera San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line juhtimine</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eesmärke saavutad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ohkem raha saad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turgu hõlvat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iske vähendad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66" name="Group 3"/>
          <p:cNvGrpSpPr/>
          <p:nvPr/>
        </p:nvGrpSpPr>
        <p:grpSpPr>
          <a:xfrm>
            <a:off x="838080" y="374760"/>
            <a:ext cx="7766280" cy="311040"/>
            <a:chOff x="838080" y="374760"/>
            <a:chExt cx="7766280" cy="311040"/>
          </a:xfrm>
        </p:grpSpPr>
        <p:sp>
          <p:nvSpPr>
            <p:cNvPr id="6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ttevõtte peamine eesmärk?</a:t>
            </a:r>
            <a:endParaRPr b="1" lang="en-US" sz="2400" spc="-1" strike="noStrike">
              <a:solidFill>
                <a:srgbClr val="000099"/>
              </a:solidFill>
              <a:latin typeface="Bitstream Vera Sans"/>
            </a:endParaRPr>
          </a:p>
        </p:txBody>
      </p:sp>
      <p:sp>
        <p:nvSpPr>
          <p:cNvPr id="70" name="PlaceHolder 2"/>
          <p:cNvSpPr>
            <a:spLocks noGrp="1"/>
          </p:cNvSpPr>
          <p:nvPr>
            <p:ph/>
          </p:nvPr>
        </p:nvSpPr>
        <p:spPr>
          <a:xfrm>
            <a:off x="838080" y="990360"/>
            <a:ext cx="7848720" cy="557676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kasumit omanikele.</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nimise viise on üldjuhul kaks:</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rilik teenimine: esitada klientidele arveid, ja teha seda nii, et nad arved ära maksaks, hoides samas väljaminekuid madalal.</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ma müügilt teenimine: müüa ettevõte või selle osad kalli raha eest maha. </a:t>
            </a:r>
            <a:endParaRPr b="0" lang="en-US" sz="1800" spc="-1" strike="noStrike">
              <a:solidFill>
                <a:srgbClr val="000000"/>
              </a:solidFill>
              <a:latin typeface="Bitstream Vera Sans"/>
            </a:endParaRPr>
          </a:p>
          <a:p>
            <a:pPr lvl="1" marL="73332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1: näiteks börsile oma aktsiaid lastes </a:t>
            </a: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2: teha nii, et aktsiahind tõuseks, ja siis müüa oma aktsiaid</a:t>
            </a:r>
            <a:endParaRPr b="0"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rvikuna: Müüa ettevõte tervikuna teisele ettevõttele</a:t>
            </a:r>
            <a:endParaRPr b="0" lang="en-US" sz="1800" spc="-1" strike="noStrike">
              <a:solidFill>
                <a:srgbClr val="000000"/>
              </a:solidFill>
              <a:latin typeface="Bitstream Vera Sans"/>
            </a:endParaRPr>
          </a:p>
          <a:p>
            <a:pPr lvl="2" marL="114300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grpSp>
        <p:nvGrpSpPr>
          <p:cNvPr id="71" name="Group 3"/>
          <p:cNvGrpSpPr/>
          <p:nvPr/>
        </p:nvGrpSpPr>
        <p:grpSpPr>
          <a:xfrm>
            <a:off x="838080" y="374760"/>
            <a:ext cx="7766280" cy="311040"/>
            <a:chOff x="838080" y="374760"/>
            <a:chExt cx="7766280" cy="311040"/>
          </a:xfrm>
        </p:grpSpPr>
        <p:sp>
          <p:nvSpPr>
            <p:cNvPr id="7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Riigi peamine eesmärk?</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990720"/>
            <a:ext cx="7848720" cy="531000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heaolu kodanikele.</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danikud on riigi aktsionärid: igalühel on üks aktsi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rlament on riigi “aktsiaseltsi nõukogu”</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tsus on riigi “aktsiaseltsi juhatus” </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kreetselt realiseerub mehhanism järgmiselt:</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liitikute õige eesmärk on teenida poliitilist kapitali (lai tunnustus)</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liitikud suunavad riigiaparaati valitsuse kaudu selliselt, et oma poliitilist kapitali maksimeerid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giaparaadi tegevuse eesmärk on poliitikute tunnustuse kasvatamine</a:t>
            </a:r>
            <a:endParaRPr b="1" lang="en-US" sz="1800" spc="-1" strike="noStrike">
              <a:solidFill>
                <a:srgbClr val="000000"/>
              </a:solidFill>
              <a:latin typeface="Bitstream Vera Sans"/>
            </a:endParaRPr>
          </a:p>
        </p:txBody>
      </p:sp>
      <p:grpSp>
        <p:nvGrpSpPr>
          <p:cNvPr id="76" name="Group 3"/>
          <p:cNvGrpSpPr/>
          <p:nvPr/>
        </p:nvGrpSpPr>
        <p:grpSpPr>
          <a:xfrm>
            <a:off x="838080" y="374760"/>
            <a:ext cx="7766280" cy="311040"/>
            <a:chOff x="838080" y="374760"/>
            <a:chExt cx="7766280" cy="311040"/>
          </a:xfrm>
        </p:grpSpPr>
        <p:sp>
          <p:nvSpPr>
            <p:cNvPr id="7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stahes firma eesmärgid a la Goldratt</a:t>
            </a:r>
            <a:endParaRPr b="1" lang="en-US" sz="2400" spc="-1" strike="noStrike">
              <a:solidFill>
                <a:srgbClr val="000099"/>
              </a:solidFill>
              <a:latin typeface="Bitstream Vera Sans"/>
            </a:endParaRPr>
          </a:p>
        </p:txBody>
      </p:sp>
      <p:sp>
        <p:nvSpPr>
          <p:cNvPr id="8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0">
              <a:lnSpc>
                <a:spcPct val="95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4800" indent="-333360">
              <a:lnSpc>
                <a:spcPct val="95000"/>
              </a:lnSpc>
              <a:spcBef>
                <a:spcPts val="499"/>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000" spc="-1" strike="noStrike">
                <a:solidFill>
                  <a:srgbClr val="000000"/>
                </a:solidFill>
                <a:latin typeface="Bitstream Vera Sans"/>
              </a:rPr>
              <a:t>Kuidas suurendada kasumlikkust?</a:t>
            </a:r>
            <a:endParaRPr b="1" lang="en-US" sz="2000" spc="-1" strike="noStrike">
              <a:solidFill>
                <a:srgbClr val="000000"/>
              </a:solidFill>
              <a:latin typeface="Bitstream Vera Sans"/>
            </a:endParaRPr>
          </a:p>
          <a:p>
            <a:pPr marL="334800" indent="0">
              <a:lnSpc>
                <a:spcPct val="95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uurendada tulu, so. müügist tulnud raha</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Vähendada laoseisu, so. hankimiseks kulunud raha</a:t>
            </a:r>
            <a:endParaRPr b="0" lang="en-US" sz="1800" spc="-1" strike="noStrike">
              <a:solidFill>
                <a:srgbClr val="000000"/>
              </a:solidFill>
              <a:latin typeface="Bitstream Vera Sans"/>
            </a:endParaRPr>
          </a:p>
          <a:p>
            <a:pPr lvl="1" marL="733320" indent="-27612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Vähendada tootmiskulusid, so. hankimisest müügini liikumise kulusid</a:t>
            </a:r>
            <a:endParaRPr b="0"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 name="Group 3"/>
          <p:cNvGrpSpPr/>
          <p:nvPr/>
        </p:nvGrpSpPr>
        <p:grpSpPr>
          <a:xfrm>
            <a:off x="838080" y="374760"/>
            <a:ext cx="7766280" cy="311040"/>
            <a:chOff x="838080" y="374760"/>
            <a:chExt cx="7766280" cy="311040"/>
          </a:xfrm>
        </p:grpSpPr>
        <p:sp>
          <p:nvSpPr>
            <p:cNvPr id="8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 strateegia: kolm äärmusmudelit</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vesteeringupõhine mullistrateegia börsi jaoks (järgmine slaid)</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vesteeringupõhine strateegia: laenata raha või müüa osalust eesmärgiga kulutada saadud raha firma suurendamisele (näiteks, inimeste palkamine: esimestel kuudel nad ei teeni raha, kuid palka tahavad küll. Kust võtta sel ajal palgaraha?)</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4800" indent="-333360">
              <a:lnSpc>
                <a:spcPct val="95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Omavahendite strateegia: alustada väikeselt ja kulutada teenitud raha selge vajaduse korral firma suurendamisele</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ffffff"/>
                </a:solidFill>
                <a:latin typeface="Bitstream Vera Sans"/>
              </a:rPr>
              <a:t>aid. Analüüsitakse kogu lisaväärtuse loomise süsteemi koos allhankijate, koostööpartnerite, ettevõtte enda ning edasimüüjatega lõpptarbijani välja. Eesmärgiks on klientide hoidmine ning lisandumine, samuti kestva konkurentsivõime tagamine.</a:t>
            </a:r>
            <a:endParaRPr b="1" lang="en-US" sz="1800" spc="-1" strike="noStrike">
              <a:solidFill>
                <a:srgbClr val="000000"/>
              </a:solidFill>
              <a:latin typeface="Bitstream Vera Sans"/>
            </a:endParaRPr>
          </a:p>
          <a:p>
            <a:pPr marL="334800" indent="0">
              <a:lnSpc>
                <a:spcPct val="95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 name="Group 3"/>
          <p:cNvGrpSpPr/>
          <p:nvPr/>
        </p:nvGrpSpPr>
        <p:grpSpPr>
          <a:xfrm>
            <a:off x="838080" y="374760"/>
            <a:ext cx="7766280" cy="311040"/>
            <a:chOff x="838080" y="374760"/>
            <a:chExt cx="7766280" cy="311040"/>
          </a:xfrm>
        </p:grpSpPr>
        <p:sp>
          <p:nvSpPr>
            <p:cNvPr id="87"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nimine ettevõtet müües</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990360"/>
            <a:ext cx="7848720" cy="5616360"/>
          </a:xfrm>
          <a:prstGeom prst="rect">
            <a:avLst/>
          </a:prstGeom>
          <a:noFill/>
          <a:ln w="0">
            <a:noFill/>
          </a:ln>
        </p:spPr>
        <p:txBody>
          <a:bodyPr lIns="92160" rIns="92160" tIns="46080" bIns="46080" anchor="t">
            <a:normAutofit/>
          </a:bodyPr>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eelda alati, et ettevõte klientidelt raha teenib.</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matähtis on, et ettevõte oleks suur ja tuntud ja investorid sooviks tema aktsiaid osta või keegi sooviks firmat tervikuna ost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i ajal oli ettevõtte müügilt teenimine peamine eesmärk. Tüüpiliselt dot-com ettevõtted teenisid ise vähe raha.</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 funktsioneeris kui kettkiri või Ponzi skeem: esimeste investorite rahaga tehti firmat uhkemaks, siis tuli jälle uusi investoreid, firma läks veel uhkemaks, jne, kuni enam investoreid ei jätkunud. Seejärel selgus, et firma eriti raha ei teeni ja investorid hakkasid oma aktsiaid maha müüma. Aktsia odavnes ja kõik hakkasid kartma, et ta odavneb veel, ja müüsid ka, mispeale aktsia odavnes üha edasi.</a:t>
            </a:r>
            <a:endParaRPr b="1" lang="en-US" sz="1800" spc="-1" strike="noStrike">
              <a:solidFill>
                <a:srgbClr val="000000"/>
              </a:solidFill>
              <a:latin typeface="Bitstream Vera Sans"/>
            </a:endParaRPr>
          </a:p>
          <a:p>
            <a:pPr marL="333360" indent="-333360">
              <a:lnSpc>
                <a:spcPct val="95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etkel on vastupidi: väärtuslikud on peamiselt need ettevõtted, mis suudavad kasumit teenida. Teiste osas ollakse ettevaatlikud.</a:t>
            </a:r>
            <a:endParaRPr b="1" lang="en-US" sz="1800" spc="-1" strike="noStrike">
              <a:solidFill>
                <a:srgbClr val="000000"/>
              </a:solidFill>
              <a:latin typeface="Bitstream Vera Sans"/>
            </a:endParaRPr>
          </a:p>
          <a:p>
            <a:pPr marL="333360" indent="0">
              <a:lnSpc>
                <a:spcPct val="95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1" name="Group 3"/>
          <p:cNvGrpSpPr/>
          <p:nvPr/>
        </p:nvGrpSpPr>
        <p:grpSpPr>
          <a:xfrm>
            <a:off x="838080" y="374760"/>
            <a:ext cx="7766280" cy="311040"/>
            <a:chOff x="838080" y="374760"/>
            <a:chExt cx="7766280" cy="311040"/>
          </a:xfrm>
        </p:grpSpPr>
        <p:sp>
          <p:nvSpPr>
            <p:cNvPr id="92" name="Line 4"/>
            <p:cNvSpPr/>
            <p:nvPr/>
          </p:nvSpPr>
          <p:spPr>
            <a:xfrm>
              <a:off x="838080" y="679680"/>
              <a:ext cx="776448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Line 5"/>
            <p:cNvSpPr/>
            <p:nvPr/>
          </p:nvSpPr>
          <p:spPr>
            <a:xfrm flipV="1">
              <a:off x="8604360" y="374760"/>
              <a:ext cx="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cp:lastModifiedBy>
  <dcterms:modified xsi:type="dcterms:W3CDTF">2011-12-06T07:30:35Z</dcterms:modified>
  <cp:revision>5</cp:revision>
  <dc:subject/>
  <dc:title>No Slide Title</dc:title>
</cp:coreProperties>
</file>